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A00-3855-48BD-95B7-91BEBA14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A60-98AD-4205-B3F3-B23D94F2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769-608E-40FD-8240-2B79D748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013-C4B4-4DC9-AAB4-A29F738E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B615-F363-4019-BFE8-A5070122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DE02-11E5-4C5C-ACFD-0D41125E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186A-5003-4087-AB44-6A91C37B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3119-9106-42AE-BE6E-CFC5FB36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14F1-6FAF-4D72-A723-6E6F6C93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D12F-E181-4A39-BB15-1A8D4F47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C754-A09C-4647-9160-6532AE5A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6A3-0FA8-4463-BD67-1B1DB439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C10A-2B31-4DD1-A341-52513596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BCE9-2E45-4304-B7F7-A7DEC411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8BB0-027C-497F-B7C2-D3DF1CB0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A3E5-23BF-49DA-A95A-B115A557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392B-4D31-4FDE-A60D-177D0F07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EFC-97BD-4AE9-B995-91585D47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AD1-42EF-4C67-8CF2-99DC6CDD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7E9-E0DB-4105-B736-EC09C173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27A0-FE22-4B33-943E-A0198C0C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878-3914-402D-BEC8-349A75B5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133-673B-431F-A540-17B04BF6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7C2-DE4D-4F58-89CF-36462EC9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A3CC-5C01-48F3-94B8-6B8DD55AD26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89A9-19AC-4F89-8A04-EA3E1CDF186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mic"/>
              </a:rPr>
              <a:t>All the pla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David monte` Mcle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mic"/>
              </a:rPr>
              <a:t>Popul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All the members of one species in a particular are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00240"/>
            <a:ext cx="754380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mic"/>
              </a:rPr>
              <a:t>Communi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lgeri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All the different populations that live together in a ar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65600" y="3124080"/>
            <a:ext cx="39924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mic"/>
              </a:rPr>
              <a:t>Ecosyste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The community of organisms that live in a particular area ,along with their nonliving surrounding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mic"/>
              </a:rPr>
              <a:t>Things in a popul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A group of dogs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A group of l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A group of bi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A group of snak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76720" y="4519440"/>
            <a:ext cx="3257280" cy="21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ings in a commun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cats and dogs living togeth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464832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ing that is in a ecosyste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fish in the water and plants and rocks in the oc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457520" cy="300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56:13Z</dcterms:created>
  <dc:creator>davidmclean</dc:creator>
  <dc:description/>
  <dc:language>en-US</dc:language>
  <cp:lastModifiedBy>LCS_user</cp:lastModifiedBy>
  <dcterms:modified xsi:type="dcterms:W3CDTF">2008-10-27T15:02:10Z</dcterms:modified>
  <cp:revision>7</cp:revision>
  <dc:subject/>
  <dc:title>Populations</dc:title>
</cp:coreProperties>
</file>